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0A461-C889-4DF0-BFB5-38D0E18517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1AEE3-4CC7-43EE-822B-CB49AE1EC6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43961-4C16-4084-B810-861BDDEF96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445D4-92D3-4383-8A5E-7680893EA5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541D03-6699-4BCE-8AB6-55AF17AA4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5978BE-5EF4-4E1F-BD17-62FE948A2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E21DE0-C5FA-4764-8873-73EE890B1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8C1A1D-383C-45F1-9E67-A4039B0FB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59B940-AFB5-491D-A8B7-31216208D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CAF069-5146-4BAC-A2C4-5D1133E54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8029BD-E459-4BCF-9EBC-E113B0E5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9ADB5-0324-4DE1-8922-475298B4E7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BB5E30-3621-4657-A0F1-6ADA2051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236EAE-9DB4-4BB9-B9DC-68D99CB1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65E792-2EF2-448E-9D40-7C69BD0AE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14B251-39FB-448E-A85F-11B843E3D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D6144D-D871-41B1-A917-0BE309E48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01469-504F-4DB2-8634-2B46565CA2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BB10E-D733-4FB1-BEA1-058C410A50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2A06E-A8DA-4DD8-8093-078B432EBE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8C9C6-6F0D-4DB8-A0C2-2C663CB85E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E4F8C-DCDA-46D8-AEEC-97DB440600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A5FC8-B46F-4AF5-94FA-66896A6F9B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F5634-CEE9-4193-8CCC-A0A519F28B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2C448-AA8B-4376-8626-4BF8B7BBF44B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AF5EB-1C5E-494F-B0BE-6E26B22309CA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67A6D-83C4-4FA2-AC23-31DB72CD05F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44519-302F-4A0E-936E-73025511370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E50E4-82B4-4305-88BE-D8696710A66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AE311-14D6-46D7-BD2E-2258BAFBD6E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C7839-9D4F-4577-B85E-288E07040CC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4E6C6-1ED7-4244-8F3B-6DBA6954410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94E0F-94EA-41D7-9985-E5DB9512F1A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1AF25-7BD8-44BC-BDF7-633DC6F0AA2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9F3B5-0BA4-453C-9B1C-08534738635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FA079-4CE6-4FB1-8540-034017864A7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7FC45-D3F2-400F-B48B-CD9CE2B461F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D1EC8-544F-4B63-9F74-22CD3FD938F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D1002-5BEA-4A25-9779-35ABF11B02B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F5C1C-C75D-4765-9AB6-31A4555D285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05T23:33:15Z</dcterms:modified>
  <cp:revision>164</cp:revision>
  <dc:subject/>
  <dc:title>minSpline: An R Package For Minimal Knot Splines</dc:title>
</cp:coreProperties>
</file>